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712-7B44-48B6-A0CF-416A8628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F64-A1AA-4AB1-BA44-FA5254E7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083-9970-4197-86B8-3934F16D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DB3-25E0-4950-89C8-B70ECE9E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92E-70C0-45B2-877F-0C48E757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54F-1C4F-4AA3-A536-E6DCEC42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71D-817E-4D65-8248-5AAA81E6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4B4-368B-4C70-B307-D275AD18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BCA-4820-477F-B8BE-F7BDB92E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511-99AA-41FE-BC43-B4E2E5EC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0FA-2D91-4428-B5EE-ED64F9B2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00E-61D2-412C-A294-6A6AE759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8D2E-B1A4-4A77-B1EA-BE6E94FBD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O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828036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ulo ITEMS esta diseñado para realizar la mantencion de las tablas 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-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-Materias Pri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-Insu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-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estos ITEMS mencionados, son utilizados finalmente en todo el ciclo operativo de la Empresa, tales como; Ventas, Compras, Produccion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6913800" cy="259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40464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ULO ITEM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cceder al modulo Items, debe ir al menu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edores &gt; Catalogo &gt;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19:44Z</dcterms:created>
  <dc:creator>.</dc:creator>
  <dc:description/>
  <dc:language>en-US</dc:language>
  <cp:lastModifiedBy>.</cp:lastModifiedBy>
  <dcterms:modified xsi:type="dcterms:W3CDTF">2011-10-24T16:09:43Z</dcterms:modified>
  <cp:revision>2</cp:revision>
  <dc:subject/>
  <dc:title>Diapositiva 1</dc:title>
</cp:coreProperties>
</file>